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2B4-0721-4809-B496-DD4DB8CA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4D4B-0C96-4066-8E9E-A350B255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854-4DEE-4670-B503-F876839A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089E-55D2-4BF1-A271-D93D0A74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7E7-78FD-49D4-A1D7-38C713DD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BD6-835B-4008-B8ED-5FFBE770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B91-B101-4100-AF12-070F25AF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710A-3862-403C-8D1A-FE5DA737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B50F-751A-4BC5-BD53-8DDA28B2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892-C4DE-4AAE-B672-564F4CFE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BDD-AEA4-434D-BAF9-C65C4F2F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02B3-77EB-4277-943C-B951B985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B41A-4B0A-4FE6-AEDB-A3A89A9E6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onathan_Swift_by_Charles_Jervas_detail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onathan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00520" cy="3581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38280" y="571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 Matt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ulliver’s Travel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ten in 17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wift’s most famou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lls the story of an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ten in order to ridicule human weaknesses and crue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terature of Swift Part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48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Modest Proposal” written in 17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st famous sa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rses on the Death of Dr. Swift” written in 17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compilation of ways Swift could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39718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orks Ci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ompetech, . "Jonathan "Isaac Bickerstaff" Swift."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incompete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 1996. incompetech, Web. 5 Oct 2009. &lt;http://incompetech.com/authors/swift/&gt;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iukkonen, Petri. "Jonathan Swift."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Books and Writer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 2008. Amazon.com, Web. 5 Oct 2009. &lt;http://www.kirjasto.sci.fi/jswift.htm&gt;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siado, Tel. "Jonathan Swift Biography."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uite10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 20 Apr. 2009. Great Writers, Web. 5 Oct 2009. &lt;http://great-writers.suite101.com/article.cfm/jonathan_swift_biography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END!!!!!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600200"/>
            <a:ext cx="3863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asic F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rn in Dublin, Ireland on Nov. 30, 16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ed in Dublin on Oct. 19, 17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ge 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rn into poor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ents: Jonathan Swift, Sr. and Abigail Er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3809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rowing Up and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09720" y="1523880"/>
            <a:ext cx="3048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wift given to rich Uncle God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udied at Kilkenny Grammar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ceived Bachelor's and Master’s degrees at Trinity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ove into Reli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dained as a Protestant p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cretary to Sir William T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an of St. Patrick’s Cathed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38480" y="1447920"/>
            <a:ext cx="41767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arly Start in 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57440" y="1523520"/>
            <a:ext cx="3048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mous for writing sat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attle of the Books” and “A Tale of a Tu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tire controversy in England and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244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ersonal Life of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48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rried Esther “Stella” Johnson in 17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ohnson died in 17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 Hester “Vanessa” Vanhomrigh in 17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ke Vanessa’s heart in 17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3200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terature of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05520" y="1523880"/>
            <a:ext cx="3047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attle of the Books” written in 17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Tale of a Tub” written in 17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so a sa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124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terature of Swift Par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ournal to Stella” written from 1710-17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rsonal feelings of Sw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denus and Vanessa” written in 17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ote story about Van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46680" y="1600200"/>
            <a:ext cx="3065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terature of Swift Part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57440" y="152388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n the Conduct of Allies” written in 17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other sa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rapier’s Letters” written in 17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mphlets of 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4480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6:34:50Z</dcterms:created>
  <dc:creator> </dc:creator>
  <dc:description/>
  <dc:language>en-US</dc:language>
  <cp:lastModifiedBy> </cp:lastModifiedBy>
  <dcterms:modified xsi:type="dcterms:W3CDTF">2009-10-20T18:15:18Z</dcterms:modified>
  <cp:revision>15</cp:revision>
  <dc:subject/>
  <dc:title>Slide 1</dc:title>
</cp:coreProperties>
</file>